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2.png" ContentType="image/png"/>
  <Override PartName="/ppt/media/image1.gif" ContentType="image/gif"/>
  <Override PartName="/ppt/media/image4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60D-E3F8-4BFA-A8A5-4551FB2B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C9E-7F57-45A4-8ADF-9E183F3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5EC-82AE-4D04-9A0A-BD9CA939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1F6-27BA-4B04-9324-FD09C955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32B-F026-456C-8AA9-E4A61A2F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A55-AF50-48C1-AAA6-26BE6701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9A2-59D2-4B6B-AD7D-FF0D1DF3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65B-FD2E-415C-944E-42D77DAD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621-BFEA-4296-ACFA-6D65AAB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33A-7BF2-491D-902C-3142A55F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0D6-0331-42FA-995B-305F2CA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B85-6344-4EB2-8898-F48BB27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63B-5874-40EE-979C-412505F07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utenberg.org/" TargetMode="External"/><Relationship Id="rId2" Type="http://schemas.openxmlformats.org/officeDocument/2006/relationships/hyperlink" Target="http://www.tuebl.ca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libre-ebook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eBooks and Calib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5589360"/>
            <a:ext cx="6840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s://www.unf.edu/~tcavanau/presentations/schultz/eBook_content_area_files/image003.gif"/>
          <p:cNvPicPr/>
          <p:nvPr/>
        </p:nvPicPr>
        <p:blipFill>
          <a:blip r:embed="rId1"/>
          <a:stretch/>
        </p:blipFill>
        <p:spPr>
          <a:xfrm>
            <a:off x="3276720" y="1989000"/>
            <a:ext cx="2324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3919320" cy="5443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1800" y="23400"/>
            <a:ext cx="6407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99844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chocchip.com.au/sites/default/files/images/blog-images/Kindle-DX-graphite-Angle-Hand.jpg"/>
          <p:cNvPicPr/>
          <p:nvPr/>
        </p:nvPicPr>
        <p:blipFill>
          <a:blip r:embed="rId3"/>
          <a:stretch/>
        </p:blipFill>
        <p:spPr>
          <a:xfrm>
            <a:off x="6518160" y="2308320"/>
            <a:ext cx="2940120" cy="307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Keith\AppData\Local\Microsoft\Windows\Temporary Internet Files\Content.IE5\H0YA9EU6\MM900283498[1].gif"/>
          <p:cNvPicPr/>
          <p:nvPr/>
        </p:nvPicPr>
        <p:blipFill>
          <a:blip r:embed="rId5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Keith\AppData\Local\Microsoft\Windows\Temporary Internet Files\Content.IE5\TU1I4EIV\MC900433879[1].png"/>
          <p:cNvPicPr/>
          <p:nvPr/>
        </p:nvPicPr>
        <p:blipFill>
          <a:blip r:embed="rId6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77" name="File"/>
          <p:cNvSpPr/>
          <p:nvPr/>
        </p:nvSpPr>
        <p:spPr>
          <a:xfrm>
            <a:off x="3062160" y="413388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79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80" name="Straight Arrow Connector 22"/>
          <p:cNvCxnSpPr/>
          <p:nvPr/>
        </p:nvCxnSpPr>
        <p:spPr>
          <a:xfrm>
            <a:off x="5784480" y="2681280"/>
            <a:ext cx="1585080" cy="27072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81" name="Straight Arrow Connector 20"/>
          <p:cNvCxnSpPr/>
          <p:nvPr/>
        </p:nvCxnSpPr>
        <p:spPr>
          <a:xfrm flipH="1">
            <a:off x="5957640" y="3933720"/>
            <a:ext cx="1062720" cy="56592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cxnSp>
        <p:nvCxnSpPr>
          <p:cNvPr id="82" name="Straight Arrow Connector 14"/>
          <p:cNvCxnSpPr/>
          <p:nvPr/>
        </p:nvCxnSpPr>
        <p:spPr>
          <a:xfrm>
            <a:off x="4487400" y="3284640"/>
            <a:ext cx="2520" cy="1134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83" name="Title 1"/>
          <p:cNvSpPr/>
          <p:nvPr/>
        </p:nvSpPr>
        <p:spPr>
          <a:xfrm>
            <a:off x="3203640" y="2017800"/>
            <a:ext cx="2357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  <a:ea typeface="Arial"/>
              </a:rPr>
              <a:t>Calib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pp Share Ca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lain butt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nect Kindle, compare view scre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pen a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1080"/>
            <a:ext cx="74167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mmary of Library(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1341360"/>
            <a:ext cx="7859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rmally on your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have multipl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copy existing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 link, create, move, renam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ate or link to library during inst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brary composed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olders and files for each 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base of meta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066080" y="115920"/>
            <a:ext cx="18000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391932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20600" y="23400"/>
            <a:ext cx="53881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9984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Keith\AppData\Local\Microsoft\Windows\Temporary Internet Files\Content.IE5\H0YA9EU6\MM900283498[1].gif"/>
          <p:cNvPicPr/>
          <p:nvPr/>
        </p:nvPicPr>
        <p:blipFill>
          <a:blip r:embed="rId4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Keith\AppData\Local\Microsoft\Windows\Temporary Internet Files\Content.IE5\TU1I4EIV\MC900433879[1].png"/>
          <p:cNvPicPr/>
          <p:nvPr/>
        </p:nvPicPr>
        <p:blipFill>
          <a:blip r:embed="rId5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95" name="File"/>
          <p:cNvSpPr/>
          <p:nvPr/>
        </p:nvSpPr>
        <p:spPr>
          <a:xfrm>
            <a:off x="3062160" y="413388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97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98" name="Straight Arrow Connector 22"/>
          <p:cNvCxnSpPr/>
          <p:nvPr/>
        </p:nvCxnSpPr>
        <p:spPr>
          <a:xfrm>
            <a:off x="5784480" y="2680920"/>
            <a:ext cx="1451880" cy="21996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20"/>
          <p:cNvCxnSpPr/>
          <p:nvPr/>
        </p:nvCxnSpPr>
        <p:spPr>
          <a:xfrm flipH="1">
            <a:off x="5957640" y="3429000"/>
            <a:ext cx="1278720" cy="107064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cxnSp>
        <p:nvCxnSpPr>
          <p:cNvPr id="100" name="Straight Arrow Connector 14"/>
          <p:cNvCxnSpPr/>
          <p:nvPr/>
        </p:nvCxnSpPr>
        <p:spPr>
          <a:xfrm>
            <a:off x="4487400" y="3284640"/>
            <a:ext cx="2520" cy="1134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10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2.bp.blogspot.com/-rbHmH-E6mMc/TnCkFbsUGPI/AAAAAAAAAwQ/SDeqaBCEvpI/s1600/iTunes-Latest.jpg"/>
          <p:cNvPicPr/>
          <p:nvPr/>
        </p:nvPicPr>
        <p:blipFill>
          <a:blip r:embed="rId6"/>
          <a:stretch/>
        </p:blipFill>
        <p:spPr>
          <a:xfrm>
            <a:off x="7236000" y="1303200"/>
            <a:ext cx="1817640" cy="254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technobuffalo.com/wp-content/uploads/2012/12/ipad-mini-scaled-1.jpg"/>
          <p:cNvPicPr/>
          <p:nvPr/>
        </p:nvPicPr>
        <p:blipFill>
          <a:blip r:embed="rId7"/>
          <a:stretch/>
        </p:blipFill>
        <p:spPr>
          <a:xfrm>
            <a:off x="6975360" y="4417920"/>
            <a:ext cx="2121120" cy="211932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21"/>
          <p:cNvCxnSpPr/>
          <p:nvPr/>
        </p:nvCxnSpPr>
        <p:spPr>
          <a:xfrm>
            <a:off x="8070480" y="3630600"/>
            <a:ext cx="1080" cy="1023120"/>
          </a:xfrm>
          <a:prstGeom prst="straightConnector1">
            <a:avLst/>
          </a:prstGeom>
          <a:ln w="76320">
            <a:solidFill>
              <a:srgbClr val="c0504d"/>
            </a:solidFill>
            <a:prstDash val="sysDash"/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0" descr=""/>
          <p:cNvPicPr/>
          <p:nvPr/>
        </p:nvPicPr>
        <p:blipFill>
          <a:blip r:embed="rId1"/>
          <a:stretch/>
        </p:blipFill>
        <p:spPr>
          <a:xfrm>
            <a:off x="2610000" y="969840"/>
            <a:ext cx="2979720" cy="5443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23400"/>
            <a:ext cx="6840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ibre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eBook with Wi-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989440" y="1484280"/>
            <a:ext cx="2331720" cy="151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rcRect l="10897" t="13479" r="11103" b="13768"/>
          <a:stretch/>
        </p:blipFill>
        <p:spPr>
          <a:xfrm>
            <a:off x="179280" y="515880"/>
            <a:ext cx="1909800" cy="13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Keith\AppData\Local\Microsoft\Windows\Temporary Internet Files\Content.IE5\H0YA9EU6\MM900283498[1].gif"/>
          <p:cNvPicPr/>
          <p:nvPr/>
        </p:nvPicPr>
        <p:blipFill>
          <a:blip r:embed="rId4"/>
          <a:stretch/>
        </p:blipFill>
        <p:spPr>
          <a:xfrm>
            <a:off x="120600" y="1346040"/>
            <a:ext cx="1054080" cy="1054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Keith\AppData\Local\Microsoft\Windows\Temporary Internet Files\Content.IE5\TU1I4EIV\MC900433879[1].png"/>
          <p:cNvPicPr/>
          <p:nvPr/>
        </p:nvPicPr>
        <p:blipFill>
          <a:blip r:embed="rId5"/>
          <a:stretch/>
        </p:blipFill>
        <p:spPr>
          <a:xfrm>
            <a:off x="417600" y="2182680"/>
            <a:ext cx="1433520" cy="1435320"/>
          </a:xfrm>
          <a:prstGeom prst="rect">
            <a:avLst/>
          </a:prstGeom>
          <a:ln w="0">
            <a:noFill/>
          </a:ln>
        </p:spPr>
      </p:pic>
      <p:sp>
        <p:nvSpPr>
          <p:cNvPr id="111" name="File"/>
          <p:cNvSpPr/>
          <p:nvPr/>
        </p:nvSpPr>
        <p:spPr>
          <a:xfrm>
            <a:off x="3062160" y="4133880"/>
            <a:ext cx="2259000" cy="1239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Arial"/>
              </a:rPr>
              <a:t>Library Folder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7"/>
          <p:cNvCxnSpPr/>
          <p:nvPr/>
        </p:nvCxnSpPr>
        <p:spPr>
          <a:xfrm>
            <a:off x="1825560" y="2182320"/>
            <a:ext cx="1378800" cy="173880"/>
          </a:xfrm>
          <a:prstGeom prst="straightConnector1">
            <a:avLst/>
          </a:prstGeom>
          <a:ln w="7632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113" name="Straight Arrow Connector 19"/>
          <p:cNvCxnSpPr/>
          <p:nvPr/>
        </p:nvCxnSpPr>
        <p:spPr>
          <a:xfrm>
            <a:off x="1825560" y="2455920"/>
            <a:ext cx="1378800" cy="18374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lg" type="arrow" w="med"/>
          </a:ln>
        </p:spPr>
      </p:cxnSp>
      <p:cxnSp>
        <p:nvCxnSpPr>
          <p:cNvPr id="114" name="Straight Arrow Connector 14"/>
          <p:cNvCxnSpPr>
            <a:stCxn id="107" idx="2"/>
          </p:cNvCxnSpPr>
          <p:nvPr/>
        </p:nvCxnSpPr>
        <p:spPr>
          <a:xfrm flipH="1">
            <a:off x="4141440" y="2997360"/>
            <a:ext cx="15120" cy="129600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  <a:headEnd len="lg" type="arrow" w="med"/>
            <a:tailEnd len="lg" type="arrow" w="med"/>
          </a:ln>
        </p:spPr>
      </p:cxnSp>
      <p:sp>
        <p:nvSpPr>
          <p:cNvPr id="11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lowchart: Process 4"/>
          <p:cNvSpPr/>
          <p:nvPr/>
        </p:nvSpPr>
        <p:spPr>
          <a:xfrm>
            <a:off x="7130880" y="4508640"/>
            <a:ext cx="1584360" cy="21603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Wi-Fi +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 rot="300600">
            <a:off x="5935680" y="1971360"/>
            <a:ext cx="23223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24"/>
          <p:cNvSpPr/>
          <p:nvPr/>
        </p:nvSpPr>
        <p:spPr>
          <a:xfrm flipH="1" rot="19337400">
            <a:off x="5827320" y="1673280"/>
            <a:ext cx="266760" cy="1138320"/>
          </a:xfrm>
          <a:custGeom>
            <a:avLst/>
            <a:gdLst/>
            <a:ahLst/>
            <a:rect l="l" t="t" r="r" b="b"/>
            <a:pathLst>
              <a:path w="1294657" h="1930400">
                <a:moveTo>
                  <a:pt x="1126386" y="0"/>
                </a:moveTo>
                <a:lnTo>
                  <a:pt x="632900" y="145143"/>
                </a:lnTo>
                <a:lnTo>
                  <a:pt x="632900" y="145143"/>
                </a:lnTo>
                <a:cubicBezTo>
                  <a:pt x="543395" y="210457"/>
                  <a:pt x="182958" y="333829"/>
                  <a:pt x="95872" y="537029"/>
                </a:cubicBezTo>
                <a:cubicBezTo>
                  <a:pt x="8786" y="740229"/>
                  <a:pt x="-73462" y="1168400"/>
                  <a:pt x="110386" y="1364343"/>
                </a:cubicBezTo>
                <a:cubicBezTo>
                  <a:pt x="294234" y="1560286"/>
                  <a:pt x="1022368" y="1618343"/>
                  <a:pt x="1198958" y="1712686"/>
                </a:cubicBezTo>
                <a:cubicBezTo>
                  <a:pt x="1375548" y="1807029"/>
                  <a:pt x="1272738" y="1868714"/>
                  <a:pt x="1169929" y="193040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5"/>
          <p:cNvSpPr/>
          <p:nvPr/>
        </p:nvSpPr>
        <p:spPr>
          <a:xfrm rot="4778400">
            <a:off x="7304040" y="3149280"/>
            <a:ext cx="2222640" cy="365040"/>
          </a:xfrm>
          <a:custGeom>
            <a:avLst/>
            <a:gdLst/>
            <a:ahLst/>
            <a:rect l="l" t="t" r="r" b="b"/>
            <a:pathLst>
              <a:path w="2191657" h="365427">
                <a:moveTo>
                  <a:pt x="0" y="234679"/>
                </a:moveTo>
                <a:cubicBezTo>
                  <a:pt x="89505" y="107679"/>
                  <a:pt x="179010" y="-19321"/>
                  <a:pt x="246743" y="2451"/>
                </a:cubicBezTo>
                <a:cubicBezTo>
                  <a:pt x="314476" y="24222"/>
                  <a:pt x="343505" y="358051"/>
                  <a:pt x="406400" y="365308"/>
                </a:cubicBezTo>
                <a:cubicBezTo>
                  <a:pt x="469295" y="372565"/>
                  <a:pt x="561219" y="45994"/>
                  <a:pt x="624114" y="45994"/>
                </a:cubicBezTo>
                <a:cubicBezTo>
                  <a:pt x="687009" y="45994"/>
                  <a:pt x="720876" y="362889"/>
                  <a:pt x="783771" y="365308"/>
                </a:cubicBezTo>
                <a:cubicBezTo>
                  <a:pt x="846666" y="367727"/>
                  <a:pt x="938591" y="62927"/>
                  <a:pt x="1001486" y="60508"/>
                </a:cubicBezTo>
                <a:cubicBezTo>
                  <a:pt x="1064381" y="58089"/>
                  <a:pt x="1100667" y="343537"/>
                  <a:pt x="1161143" y="350794"/>
                </a:cubicBezTo>
                <a:cubicBezTo>
                  <a:pt x="1221619" y="358051"/>
                  <a:pt x="1306286" y="104051"/>
                  <a:pt x="1364343" y="104051"/>
                </a:cubicBezTo>
                <a:cubicBezTo>
                  <a:pt x="1422400" y="104051"/>
                  <a:pt x="1444172" y="353213"/>
                  <a:pt x="1509486" y="350794"/>
                </a:cubicBezTo>
                <a:cubicBezTo>
                  <a:pt x="1574800" y="348375"/>
                  <a:pt x="1698172" y="89537"/>
                  <a:pt x="1756229" y="89537"/>
                </a:cubicBezTo>
                <a:cubicBezTo>
                  <a:pt x="1814286" y="89537"/>
                  <a:pt x="1807029" y="350794"/>
                  <a:pt x="1857829" y="350794"/>
                </a:cubicBezTo>
                <a:cubicBezTo>
                  <a:pt x="1908629" y="350794"/>
                  <a:pt x="2005391" y="106470"/>
                  <a:pt x="2061029" y="89537"/>
                </a:cubicBezTo>
                <a:cubicBezTo>
                  <a:pt x="2116667" y="72604"/>
                  <a:pt x="2154162" y="160899"/>
                  <a:pt x="2191657" y="249194"/>
                </a:cubicBezTo>
              </a:path>
            </a:pathLst>
          </a:custGeom>
          <a:noFill/>
          <a:ln w="25560">
            <a:solidFill>
              <a:srgbClr val="00b050"/>
            </a:solidFill>
            <a:prstDash val="sys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761080" y="3746520"/>
            <a:ext cx="21621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Arial"/>
              </a:rPr>
              <a:t>ADSL Wi-Fi Modem Rou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ular Callout 9"/>
          <p:cNvSpPr/>
          <p:nvPr/>
        </p:nvSpPr>
        <p:spPr>
          <a:xfrm>
            <a:off x="6224760" y="905040"/>
            <a:ext cx="1811160" cy="804600"/>
          </a:xfrm>
          <a:prstGeom prst="wedgeRectCallout">
            <a:avLst>
              <a:gd name="adj1" fmla="val -136763"/>
              <a:gd name="adj2" fmla="val 392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ent Server ON in Cali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mmary - Calibre to i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‘Connect to iTunes’ in Cali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ok is transferred to the iTunes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iTunes, Sync with your iDevice to do th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using iBooks on your i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ibre and iTunes – 2 Libraries?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Edit/Preferences/Advanced/ Copy Fil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Calibri"/>
              </a:rPr>
              <a:t>Questions?</a:t>
            </a:r>
            <a:br>
              <a:rPr sz="5400"/>
            </a:br>
            <a:r>
              <a:rPr b="1" lang="en-AU" sz="5400" spc="-1" strike="noStrike">
                <a:solidFill>
                  <a:srgbClr val="000000"/>
                </a:solidFill>
                <a:latin typeface="Calibri"/>
              </a:rPr>
              <a:t>Comment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or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268280"/>
          <a:ext cx="7993080" cy="4865760"/>
        </p:xfrm>
        <a:graphic>
          <a:graphicData uri="http://schemas.openxmlformats.org/drawingml/2006/table">
            <a:tbl>
              <a:tblPr/>
              <a:tblGrid>
                <a:gridCol w="3583080"/>
                <a:gridCol w="2481120"/>
                <a:gridCol w="1928880"/>
              </a:tblGrid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b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tery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s (if e-i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a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in the dark or dim l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ch sc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and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n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68000"/>
            <a:ext cx="627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What is an eBook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2276640"/>
            <a:ext cx="8147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gital file of a ‘normally’ paper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 all paper books also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ways of reading – kindle, nook, generic, smartphone, PC, iphone, ipad, and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eBooks on one read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y online, immediate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riable text size, dictionary, add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www.authormedia.com/wp-content/uploads/2011/12/ebook.jpg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Formats</a:t>
            </a:r>
            <a:br>
              <a:rPr sz="44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The Tower of eBabel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Pub, Mobi, PDF, txt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most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zw – Amaz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beB – S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DF – Ad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y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les may be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tected - D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1.bp.blogspot.com/_d_yxMc3N2xs/S3MtZpEx_YI/AAAAAAAAAcs/B_nrAH4dF5M/s1600/mostpopular+ebook+formats+2010.jpg"/>
          <p:cNvPicPr/>
          <p:nvPr/>
        </p:nvPicPr>
        <p:blipFill>
          <a:blip r:embed="rId1"/>
          <a:stretch/>
        </p:blipFill>
        <p:spPr>
          <a:xfrm>
            <a:off x="3871800" y="2273400"/>
            <a:ext cx="52722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6624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Q. What eBook </a:t>
            </a:r>
            <a:br>
              <a:rPr sz="5400"/>
            </a:b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reader to bu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68360" y="3933720"/>
            <a:ext cx="6676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A. What are you </a:t>
            </a:r>
            <a:br>
              <a:rPr sz="5400"/>
            </a:br>
            <a:r>
              <a:rPr b="1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REALLY</a:t>
            </a:r>
            <a:r>
              <a:rPr b="0" lang="en-AU" sz="5400" spc="-1" strike="noStrike">
                <a:solidFill>
                  <a:srgbClr val="000000"/>
                </a:solidFill>
                <a:latin typeface="Calibri"/>
                <a:ea typeface="Arial"/>
              </a:rPr>
              <a:t> aft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Users\Keith\AppData\Local\Microsoft\Windows\Temporary Internet Files\Content.IE5\TU1I4EIV\MC900078743[1].wmf"/>
          <p:cNvPicPr/>
          <p:nvPr/>
        </p:nvPicPr>
        <p:blipFill>
          <a:blip r:embed="rId1"/>
          <a:stretch/>
        </p:blipFill>
        <p:spPr>
          <a:xfrm>
            <a:off x="6659640" y="3300480"/>
            <a:ext cx="19368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Reader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ook reader or Tabl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-Ink or LCD scre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&amp;W or Colo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ma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in the da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-Fi, 3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tra stor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to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Keith\AppData\Local\Microsoft\Windows\Temporary Internet Files\Content.IE5\YLTNGGEK\MC900330862[1].wmf"/>
          <p:cNvPicPr/>
          <p:nvPr/>
        </p:nvPicPr>
        <p:blipFill>
          <a:blip r:embed="rId1"/>
          <a:stretch/>
        </p:blipFill>
        <p:spPr>
          <a:xfrm flipH="1">
            <a:off x="4356000" y="1604880"/>
            <a:ext cx="4392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book or Tabl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268280"/>
          <a:ext cx="7993080" cy="4865760"/>
        </p:xfrm>
        <a:graphic>
          <a:graphicData uri="http://schemas.openxmlformats.org/drawingml/2006/table">
            <a:tbl>
              <a:tblPr/>
              <a:tblGrid>
                <a:gridCol w="2952720"/>
                <a:gridCol w="5040360"/>
              </a:tblGrid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to 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Battery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Ink eBook (wee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est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ink 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in the dark, dim l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 with lighting, 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ch screen or but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. Buttons fine for eBook R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eBook Readers,  Android tab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eBook Readers, all tablets, smartph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and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t,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ook Reader, cheap Android tablet or smart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9" name="Picture 6" descr="http://chocchip.com.au/sites/default/files/images/blog-images/Kindle-DX-graphite-Angle-Hand.jpg"/>
          <p:cNvPicPr/>
          <p:nvPr/>
        </p:nvPicPr>
        <p:blipFill>
          <a:blip r:embed="rId1"/>
          <a:stretch/>
        </p:blipFill>
        <p:spPr>
          <a:xfrm>
            <a:off x="1258920" y="115920"/>
            <a:ext cx="1081080" cy="11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technobuffalo.com/wp-content/uploads/2012/12/ipad-mini-scaled-1.jpg"/>
          <p:cNvPicPr/>
          <p:nvPr/>
        </p:nvPicPr>
        <p:blipFill>
          <a:blip r:embed="rId2"/>
          <a:stretch/>
        </p:blipFill>
        <p:spPr>
          <a:xfrm>
            <a:off x="6875640" y="954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to get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341360"/>
            <a:ext cx="800244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ject Gutenberg (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utenberg.or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mazon, Barnes &amp; Noble, Apple iBooks, Google Play, others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cal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Ultimate Ebook Library (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uebl.c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ay – DVD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gle for ‘where to get ebook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Calibr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C:\Program Files (x86)\Microsoft Office XP\Media\CntCD1\ClipArt2\j0229897.wmf"/>
          <p:cNvPicPr/>
          <p:nvPr/>
        </p:nvPicPr>
        <p:blipFill>
          <a:blip r:embed="rId3"/>
          <a:stretch/>
        </p:blipFill>
        <p:spPr>
          <a:xfrm flipH="1">
            <a:off x="6875280" y="4941720"/>
            <a:ext cx="197316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4680" y="76464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oading eBooks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nto your eRea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92360" y="2420640"/>
            <a:ext cx="45352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Book is a ‘Devic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B c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-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3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Calibr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Program Files (x86)\Microsoft Office XP\Media\CntCD1\ClipArt5\j0286976.wmf"/>
          <p:cNvPicPr/>
          <p:nvPr/>
        </p:nvPicPr>
        <p:blipFill>
          <a:blip r:embed="rId1"/>
          <a:stretch/>
        </p:blipFill>
        <p:spPr>
          <a:xfrm flipH="1">
            <a:off x="6011640" y="404640"/>
            <a:ext cx="29113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calib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RE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eBook program for Windows and 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nage a ‘library(s)’ of your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eBook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nc to your e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wnload News and convert to 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built eBook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libre-eboo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456240" y="5445000"/>
            <a:ext cx="22780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9:33:57Z</dcterms:created>
  <dc:creator>Keith</dc:creator>
  <dc:description/>
  <dc:language>en-US</dc:language>
  <cp:lastModifiedBy>Keith</cp:lastModifiedBy>
  <dcterms:modified xsi:type="dcterms:W3CDTF">2014-02-21T12:18:18Z</dcterms:modified>
  <cp:revision>77</cp:revision>
  <dc:subject/>
  <dc:title>PowerPoint Presentation</dc:title>
</cp:coreProperties>
</file>